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AEFF4-A5AC-4BB3-A9BD-1A91E09B7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2C6A6-4B6E-4C8F-BAF2-C44208F6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DF6D0-52BF-4101-817D-029234B42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511CC-31D6-4E46-9F18-EBEB69171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1E22-B6A7-4D76-93D0-5E4AA9253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C04F-9F48-40C5-8D2F-E7C8D43B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81D4-99C5-49D3-B079-072BE2A3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9C08-979B-4368-8112-74F7E4F8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FDAD-F84C-4148-B4D1-EBE0D332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284B-372F-4AC9-BC05-4CED7203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A893-E51F-4283-8F97-8E3F6D4B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AF9CC-0ECD-45EC-BFA8-A7CB87A5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E2BB-3180-42A4-B5C2-53B6851F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DF693-4F8C-470C-BD1F-29138BB9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F983-BDE2-40EA-A910-1D78F2BC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DDE0-5877-430D-B92F-3DEF78A8E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B37A-1CCE-4473-9309-E6A7DA250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46439-54CF-41F1-AA09-89DADD30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0A8CD-67A7-4D68-8FCA-E4D63E44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63E85-BE99-4BB8-A54D-88AF11E9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06E88-81B6-48FE-B638-5C0A6149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3B87F-978F-4D84-AA6C-1B43073D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58176-9407-46FC-983D-34563E6E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CFE67-486D-4609-A8EF-1B144401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2E00-6B30-4978-9439-77792F5848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46F1-D679-4498-BBDE-C882227E8A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ift Cipher Analysis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the Shift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hift cipher is easy to break by a brute force attac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all 25 possible shifts on the cipher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em will produce plaintex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 will do this for you (see th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6BFAF-2A94-4DBF-A359-EA5E06E134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 try all 25 shifts and report th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0" y="6248520"/>
            <a:ext cx="1009800" cy="48564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1143000" y="2195640"/>
            <a:ext cx="5325840" cy="4662360"/>
            <a:chOff x="1143000" y="2195640"/>
            <a:chExt cx="5325840" cy="4662360"/>
          </a:xfrm>
        </p:grpSpPr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1143000" y="2195640"/>
              <a:ext cx="5325840" cy="46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2268360" y="2919240"/>
              <a:ext cx="1114560" cy="1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902680" y="3720960"/>
            <a:ext cx="1501920" cy="865440"/>
            <a:chOff x="2902680" y="3720960"/>
            <a:chExt cx="1501920" cy="865440"/>
          </a:xfrm>
        </p:grpSpPr>
        <p:sp>
          <p:nvSpPr>
            <p:cNvPr id="122" name=""/>
            <p:cNvSpPr/>
            <p:nvPr/>
          </p:nvSpPr>
          <p:spPr>
            <a:xfrm>
              <a:off x="2944800" y="3747960"/>
              <a:ext cx="1380960" cy="838440"/>
            </a:xfrm>
            <a:prstGeom prst="wedgeRoundRectCallout">
              <a:avLst>
                <a:gd name="adj1" fmla="val -43791"/>
                <a:gd name="adj2" fmla="val 64393"/>
                <a:gd name="adj3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02680" y="3720960"/>
              <a:ext cx="1501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nter th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ipher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906560" y="2157480"/>
            <a:ext cx="1381320" cy="838080"/>
            <a:chOff x="1906560" y="2157480"/>
            <a:chExt cx="1381320" cy="838080"/>
          </a:xfrm>
        </p:grpSpPr>
        <p:sp>
          <p:nvSpPr>
            <p:cNvPr id="125" name=""/>
            <p:cNvSpPr/>
            <p:nvPr/>
          </p:nvSpPr>
          <p:spPr>
            <a:xfrm>
              <a:off x="1906560" y="2157480"/>
              <a:ext cx="1381320" cy="838080"/>
            </a:xfrm>
            <a:prstGeom prst="wedgeRoundRectCallout">
              <a:avLst>
                <a:gd name="adj1" fmla="val -43791"/>
                <a:gd name="adj2" fmla="val 64393"/>
                <a:gd name="adj3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26440" y="2158920"/>
              <a:ext cx="102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105520" y="2700360"/>
            <a:ext cx="3754440" cy="323388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5230800" y="1995480"/>
            <a:ext cx="1380960" cy="838080"/>
            <a:chOff x="5230800" y="1995480"/>
            <a:chExt cx="1380960" cy="838080"/>
          </a:xfrm>
        </p:grpSpPr>
        <p:sp>
          <p:nvSpPr>
            <p:cNvPr id="129" name=""/>
            <p:cNvSpPr/>
            <p:nvPr/>
          </p:nvSpPr>
          <p:spPr>
            <a:xfrm>
              <a:off x="5230800" y="1995480"/>
              <a:ext cx="1380960" cy="838080"/>
            </a:xfrm>
            <a:prstGeom prst="wedgeRoundRectCallout">
              <a:avLst>
                <a:gd name="adj1" fmla="val -43791"/>
                <a:gd name="adj2" fmla="val 64393"/>
                <a:gd name="adj3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50680" y="1996920"/>
              <a:ext cx="102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5383080" y="4576680"/>
            <a:ext cx="2657520" cy="5050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43560" y="3408480"/>
            <a:ext cx="304812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54320" y="4659480"/>
            <a:ext cx="9144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A7F95-C7F0-4D7F-B1A9-9F3F2F122A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xit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04T01:24:25Z</dcterms:modified>
  <cp:revision>35</cp:revision>
  <dc:subject/>
  <dc:title>CAP Cryptographic Analysis Program</dc:title>
</cp:coreProperties>
</file>